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533520" y="1143000"/>
            <a:ext cx="8001000" cy="4362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خصصات</a:t>
            </a:r>
            <a:r>
              <a:rPr b="1" lang="en-US" sz="2000" spc="-1" strike="noStrike">
                <a:solidFill>
                  <a:srgbClr val="ffffff"/>
                </a:solidFill>
                <a:latin typeface="Times New Roman"/>
              </a:rPr>
              <a:t> </a:t>
            </a:r>
            <a:r>
              <a:rPr b="1" lang="ar-EG" sz="2000" spc="-1" strike="noStrike">
                <a:solidFill>
                  <a:srgbClr val="ffffff"/>
                </a:solidFill>
                <a:latin typeface="Times New Roman"/>
              </a:rPr>
              <a:t> والالتزامات</a:t>
            </a:r>
            <a:r>
              <a:rPr b="1" lang="ar-SA" sz="2000" spc="-1" strike="noStrike">
                <a:solidFill>
                  <a:srgbClr val="ffffff"/>
                </a:solidFill>
                <a:latin typeface="Times New Roman"/>
              </a:rPr>
              <a:t> الطارئة</a:t>
            </a:r>
            <a:r>
              <a:rPr b="1" lang="ar-EG" sz="2000" spc="-1" strike="noStrike">
                <a:solidFill>
                  <a:srgbClr val="ffffff"/>
                </a:solidFill>
                <a:latin typeface="Times New Roman"/>
              </a:rPr>
              <a:t> والأرباح المحتمل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مثل الالتزام أو التمويل غير المدرج بالميزانية أحد الاشكال المحاسبية فى التدليس حيث تسمح بالتحريف فى بنود القوائم المالية نتيجة عدم إثباتها أو تغيير قيمتها بهدف إظهار صورة أفضل للمركز المالى ونتائج الاعما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هدف مبدأ إثبات المعاملات طبقا لجوهرها الى الحد من أو إبطال مفعول هذا النوع من الممارسات كما يهدف معيار المحاسبة الخاص بالتعامل مع الظروف والاحداث الطارئة والمخصصات الى تلافى تلك الممارسات كطرق للمحاسبة المضللة.</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04920" y="304920"/>
            <a:ext cx="8458200" cy="74498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إثبات (التحقق)</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جب إثبات المخصص فقط عندما يكون (أو من المفترض ان يكون) لدى المنشاة التزام حالى بتحويل منافع اقتصادية كنتيجة لحدث فى الماضى وعندما لا يكون لدى المنشاة البديل الفعلى لعملية تحويل المنافع الاقتصادية وبالتالى يجب إثبات المخصص ما لم يكن ممكنا تقدير المبلغ اللازم لسداد الالتزام بدرجة معقولة. فإن لم يكن ممكنا تقدير المبلغ المذكور فإن الامر يستوجب الإفصاح عن طبيعة الالتزام والعوامل المرتبطة بتحديد مبلغ وتوقيت السداد المستقبلى.</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لا يجب تكوين مخصصات لخسائر التشغيل المستقبلية على الرغم من انه يجب إثبات صافى عقد ما قائم عندما يصبح العقد خاسرا (مرهقا) والذى يعرف بأنه العقد الذى تبرمه المنشأة مع طرف آخر وتزيد بموجبه تكاليف تنفيذ بنوده على أية إيرادات يتوقع استلامها وبشرط ان تكون المنشأة مضطرة لسداد تعويضات للطرف الآخر لو لم تفى بالتزاماتها بموجب العقد.</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تطلب لجنة معايير المحاسبة الدولية وجوب إثبات مخصصات لإعادة التنظيم وإعادة الهيكلة فقط عندما يتأكد ارتباط المنشاة بعملية إعادة التنظيم كان يتم اتخاذ خطوات معينة من المتوقع ان يتحرك بعدها الآخرون على اساس أن عملية إعادة التنظيم سوف تبدأ.</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تعرف إعادة الهيكلة بأنها برنامج يتم التخطيط له ومراقبته من قبل الغدارة ويكون له تاثير جوهرى على نشاط المنشاة فيما يتعلق بمنتجاتها او خدماتها او الطريقة التى تتم بها ممارسة النشاط.</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457200" y="533520"/>
            <a:ext cx="830592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قيــــاس</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جب قياس المبلغ المعترف به كمخصص وفقا لأفضل تقدير للإنفاق المطلوب سدادا للالتزام القائم فى تاريخ الميزانية. ويجب الوصول الى أفضل تقدير فى ضوء الأخطار المرتبطة بالتدفقات النقدية والاحداث المستقبلية المتوقعة وفى ضوء القيمة الحالية للمبلغ المستحق إذا ما كان للخصم تأثير جوهر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حتسب الخصم على المبلغ المستحق إما من خلال خصم التدفقات النقدية التى يتم قياسها وفقا للأسعار الحالية باستخدام سعر الخصم الحقيقى، او بخصم التدفقات النقدية التى يتم قياسها وفقا للاسعار المستقبلية المقدرة باستخدام سعر الخصم الأسم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ركة (أ) تعتقد أن هناك احتمال </a:t>
            </a:r>
            <a:r>
              <a:rPr b="0" lang="ar-SA" sz="2000" spc="-1" strike="noStrike">
                <a:solidFill>
                  <a:srgbClr val="ffffff"/>
                </a:solidFill>
                <a:latin typeface="Times New Roman"/>
              </a:rPr>
              <a:t>75</a:t>
            </a:r>
            <a:r>
              <a:rPr b="0" lang="ar-SA" sz="2000" spc="-1" strike="noStrike">
                <a:solidFill>
                  <a:srgbClr val="ffffff"/>
                </a:solidFill>
                <a:latin typeface="Times New Roman"/>
              </a:rPr>
              <a:t>% أن الضمانات ستكلفها </a:t>
            </a:r>
            <a:r>
              <a:rPr b="0" lang="ar-SA" sz="2000" spc="-1" strike="noStrike">
                <a:solidFill>
                  <a:srgbClr val="ffffff"/>
                </a:solidFill>
                <a:latin typeface="Times New Roman"/>
              </a:rPr>
              <a:t>30000</a:t>
            </a:r>
            <a:r>
              <a:rPr b="0" lang="ar-SA" sz="2000" spc="-1" strike="noStrike">
                <a:solidFill>
                  <a:srgbClr val="ffffff"/>
                </a:solidFill>
                <a:latin typeface="Times New Roman"/>
              </a:rPr>
              <a:t> جنيها واحتمال </a:t>
            </a:r>
            <a:r>
              <a:rPr b="0" lang="ar-SA" sz="2000" spc="-1" strike="noStrike">
                <a:solidFill>
                  <a:srgbClr val="ffffff"/>
                </a:solidFill>
                <a:latin typeface="Times New Roman"/>
              </a:rPr>
              <a:t>25</a:t>
            </a:r>
            <a:r>
              <a:rPr b="0" lang="ar-SA" sz="2000" spc="-1" strike="noStrike">
                <a:solidFill>
                  <a:srgbClr val="ffffff"/>
                </a:solidFill>
                <a:latin typeface="Times New Roman"/>
              </a:rPr>
              <a:t>% أن تكلفها الضمانات </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حتسب أفضل تقدير على النحو التال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30000</a:t>
            </a:r>
            <a:r>
              <a:rPr b="0" lang="ar-SA" sz="2000" spc="-1" strike="noStrike">
                <a:solidFill>
                  <a:srgbClr val="ffffff"/>
                </a:solidFill>
                <a:latin typeface="Times New Roman"/>
              </a:rPr>
              <a:t> جنيها </a:t>
            </a:r>
            <a:r>
              <a:rPr b="0" lang="ar-EG" sz="2000" spc="-1" strike="noStrike">
                <a:solidFill>
                  <a:srgbClr val="ffffff"/>
                </a:solidFill>
                <a:latin typeface="Times New Roman"/>
              </a:rPr>
              <a:t>* </a:t>
            </a:r>
            <a:r>
              <a:rPr b="0" lang="ar-SA" sz="2000" spc="-1" strike="noStrike">
                <a:solidFill>
                  <a:srgbClr val="ffffff"/>
                </a:solidFill>
                <a:latin typeface="Times New Roman"/>
              </a:rPr>
              <a:t>75</a:t>
            </a:r>
            <a:r>
              <a:rPr b="0" lang="ar-SA" sz="2000" spc="-1" strike="noStrike">
                <a:solidFill>
                  <a:srgbClr val="ffffff"/>
                </a:solidFill>
                <a:latin typeface="Times New Roman"/>
              </a:rPr>
              <a:t>. + </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5</a:t>
            </a:r>
            <a:r>
              <a:rPr b="0" lang="ar-SA" sz="2000" spc="-1" strike="noStrike">
                <a:solidFill>
                  <a:srgbClr val="ffffff"/>
                </a:solidFill>
                <a:latin typeface="Times New Roman"/>
              </a:rPr>
              <a:t>.    =   </a:t>
            </a:r>
            <a:r>
              <a:rPr b="0" lang="ar-SA" sz="2000" spc="-1" strike="noStrike">
                <a:solidFill>
                  <a:srgbClr val="ffffff"/>
                </a:solidFill>
                <a:latin typeface="Times New Roman"/>
              </a:rPr>
              <a:t>375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304920" y="762120"/>
            <a:ext cx="853416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تطلبات الإفصاح</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وصف مختصر لطبيعة الالتزام يشمل بيان تاريخ السداد وتفاصيل حالات عدم التأكد الجوهر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القيمة الدفترية فى بداية ونهاية المد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مبلغ أى تغطية متوقعة مع بيان ما إذا كان قد تم تحقيق أصل من الاصول أم لا كنتيجة للمطالب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حركة كل نوع من انواع المخصصات خلال العا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جراء المقاص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د تلجأ المنشاة لجهة أخرى لسداد جزء أو كل الإنفاق المطلوب لسداد التزام ما، وتتطلب لجنة معايير المحاسبة الدولية أن تتم معالجة الالتزام والمبلغ المسترجع بشكل عام كالتزام مستقل واصل مستقل وذلك بسبب ان الشركة المعنية والتى تقيد المعاملة بدفاترها هى المسئولة عن إجمالى المبلغ بغض النظر عن إمكانياتها فى استرداد الإنفاق من الغير.</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457200" y="1219320"/>
            <a:ext cx="81532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التزامات الطارئة والاصول الطارئ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عرف الحالة الطارئة بأنها حالة تنشأ عن أحداث وقعت فى الماضى وتكون قائمة فى تاريخ الميزانية مما يؤدى الى الى نشوء اصل او التزام سوف يتأكد فقط عند وقوع او عدم وقوع واحد او اكثر من أحداث مستقبلية غير مؤكدة والتى لا سيطرة للمنشاة عل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الات الطارئة المتعلقة بامور البيئ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جب إثبات المخصصات المتعلقة بالتزامات البيئة فى الوقت والى المدى اللذان تصبح فيهما المنشاة ملزمة قانونا أو ضمنيا بمعالجة أضرار البيئة أو القيام بأعمال تجديدات او غيرها من الاعمال التى تخص البيئة. كما أن مجرد وجود تلوث بيئى حتى لو كانت المنشاة متسببة فيه لا يؤدى الى نشوء التزام فالعبرة عند تقرير إثبات الالتزام هى عندما يكون على المنشاة التزام قانونى او ضمنى بتحويل منافع اقتصادية نتيجة أحداث وقعت فى الماضى</a:t>
            </a:r>
            <a:r>
              <a:rPr b="0" lang="ar-EG"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5105520" y="776160"/>
            <a:ext cx="373356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إثبات الالتزامات والأصول الطارئة</a:t>
            </a:r>
            <a:endParaRPr b="0" lang="en-US" sz="2000" spc="-1" strike="noStrike">
              <a:solidFill>
                <a:srgbClr val="ffffff"/>
              </a:solidFill>
              <a:latin typeface="Times New Roman"/>
            </a:endParaRPr>
          </a:p>
        </p:txBody>
      </p:sp>
      <p:graphicFrame>
        <p:nvGraphicFramePr>
          <p:cNvPr id="96" name=""/>
          <p:cNvGraphicFramePr/>
          <p:nvPr/>
        </p:nvGraphicFramePr>
        <p:xfrm>
          <a:off x="380880" y="1752480"/>
          <a:ext cx="8534520" cy="3862440"/>
        </p:xfrm>
        <a:graphic>
          <a:graphicData uri="http://schemas.openxmlformats.org/drawingml/2006/table">
            <a:tbl>
              <a:tblPr/>
              <a:tblGrid>
                <a:gridCol w="1067040"/>
                <a:gridCol w="1523880"/>
                <a:gridCol w="1219320"/>
                <a:gridCol w="1143000"/>
                <a:gridCol w="3581280"/>
              </a:tblGrid>
              <a:tr h="669960">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عدم الإثبات</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إفصاح عن الطبيع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إفصاح بالمبلغ</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يتم الإثبات</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بي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57960">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ffffff"/>
                          </a:solidFill>
                          <a:latin typeface="Univers 45 Light"/>
                        </a:rPr>
                        <a:t>X</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ffffff"/>
                          </a:solidFill>
                          <a:latin typeface="Univers 45 Light"/>
                        </a:rPr>
                        <a:t>X</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خسارة محتملة الحدوث بقوة ويمكن تقدير المبلغ بطريقة مناسب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57960">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ffffff"/>
                          </a:solidFill>
                          <a:latin typeface="Univers 45 Light"/>
                        </a:rPr>
                        <a:t>X</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EG" sz="1800" spc="-1" strike="noStrike">
                          <a:solidFill>
                            <a:srgbClr val="ffffff"/>
                          </a:solidFill>
                          <a:latin typeface="Times New Roman"/>
                          <a:cs typeface="Times New Roman"/>
                        </a:rPr>
                        <a:t>نطاق المبلغ</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خسارة محتملة الحدوث بقوة ولا يمكن تقدير المبلغ بطريقة مناسب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ffffff"/>
                          </a:solidFill>
                          <a:latin typeface="Univers 45 Light"/>
                        </a:rPr>
                        <a:t>X</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EG" sz="1800" spc="-1" strike="noStrike">
                          <a:solidFill>
                            <a:srgbClr val="ffffff"/>
                          </a:solidFill>
                          <a:latin typeface="Times New Roman"/>
                          <a:cs typeface="Times New Roman"/>
                        </a:rPr>
                        <a:t>نطاق المبلغ</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خسارة ممكن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ffffff"/>
                          </a:solidFill>
                          <a:latin typeface="Univers 45 Light"/>
                        </a:rPr>
                        <a:t>X</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ffffff"/>
                          </a:solidFill>
                          <a:latin typeface="Univers 45 Light"/>
                        </a:rPr>
                        <a:t>X</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خسارة احتمالها ضعيف</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ffffff"/>
                          </a:solidFill>
                          <a:latin typeface="Univers 45 Light"/>
                        </a:rPr>
                        <a:t>X</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ffffff"/>
                          </a:solidFill>
                          <a:latin typeface="Univers 45 Light"/>
                        </a:rPr>
                        <a:t>X</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أرباح محتملة الحدوث بقوة أو ممكن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ffffff"/>
                          </a:solidFill>
                          <a:latin typeface="Univers 45 Light"/>
                        </a:rPr>
                        <a:t>X</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أرباح احتمالها ضعيف</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380880" y="1295280"/>
            <a:ext cx="8305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اشكال المعروفة للمعاملات التى قد تقوم المنشآت بعدم إدراجها بالميزان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أجير الاصول بنظام التاجير التمويلى.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شركات غير التابعة تحت السيطر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أدوات المالية المعقد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خطط تملك العاملين للأسهم</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609480" y="1766880"/>
            <a:ext cx="800100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زايا التى يمكن ان تحصل عليها المنشآت من خلال المعاملات التى لا يتم إدراجها بالميزان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تصوير الرافعة المالية للمنشاة (نسبة الديون الى حقوق الملكية) باقل من قيمت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الإخلال بشروط تعاقدية مثل القروض يترتب عليه عدم إثبات التزامات بالميزان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تخفيض قيمة الاصول مما ينتج عنه ارتفاع معدل العائد على الاستثما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ستبعاد بعض الانشطة مثل عمليات التأجير التمويلى من الميزانية</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762120" y="685800"/>
            <a:ext cx="7619760" cy="53280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بدأ الجوهر قبل الشكل</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يتطلب</a:t>
            </a:r>
            <a:r>
              <a:rPr b="0" lang="ar-SA" sz="2000" spc="-1" strike="noStrike">
                <a:solidFill>
                  <a:srgbClr val="ffffff"/>
                </a:solidFill>
                <a:latin typeface="Times New Roman"/>
              </a:rPr>
              <a:t> هذا المبدأ إثبات المعاملات وإظهارها بالقوائم المالية بما يتلاءم مع جوهرها وحقيقتها المالية وليس مجرد شكلها القانونى، وبالتالى يمنع استبعاد بعض المعاملات من الميزاني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ثال: إن عدم رسملة عمليات نفقات عمليات الإيجار التمويلى وبالتالى ع</a:t>
            </a:r>
            <a:r>
              <a:rPr b="0" lang="ar-EG" sz="2000" spc="-1" strike="noStrike">
                <a:solidFill>
                  <a:srgbClr val="ffffff"/>
                </a:solidFill>
                <a:latin typeface="Times New Roman"/>
              </a:rPr>
              <a:t>ن</a:t>
            </a:r>
            <a:r>
              <a:rPr b="0" lang="ar-SA" sz="2000" spc="-1" strike="noStrike">
                <a:solidFill>
                  <a:srgbClr val="ffffff"/>
                </a:solidFill>
                <a:latin typeface="Times New Roman"/>
              </a:rPr>
              <a:t>د </a:t>
            </a:r>
            <a:r>
              <a:rPr b="0" lang="ar-EG" sz="2000" spc="-1" strike="noStrike">
                <a:solidFill>
                  <a:srgbClr val="ffffff"/>
                </a:solidFill>
                <a:latin typeface="Times New Roman"/>
              </a:rPr>
              <a:t>إ</a:t>
            </a:r>
            <a:r>
              <a:rPr b="0" lang="ar-SA" sz="2000" spc="-1" strike="noStrike">
                <a:solidFill>
                  <a:srgbClr val="ffffff"/>
                </a:solidFill>
                <a:latin typeface="Times New Roman"/>
              </a:rPr>
              <a:t>ثبات الالتزامات الخاصة به سوف يؤدى الى ان تكون المقارنات التالية مضللة مع المنشآت التى تقوم بالرسملة وإثبات الالتزامات.</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العائد على رأس المال المستثمر.</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معدل الديون الى حقوق الملكية (الرافعة المالية).</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533520" y="990720"/>
            <a:ext cx="8076960" cy="42418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a:t>
            </a:r>
            <a:r>
              <a:rPr b="0" lang="ar-SA" sz="2000" spc="-1" strike="noStrike">
                <a:solidFill>
                  <a:srgbClr val="ffffff"/>
                </a:solidFill>
                <a:latin typeface="Times New Roman"/>
              </a:rPr>
              <a:t>1/1</a:t>
            </a:r>
            <a:r>
              <a:rPr b="0" lang="ar-EG" sz="2000" spc="-1" strike="noStrike">
                <a:solidFill>
                  <a:srgbClr val="ffffff"/>
                </a:solidFill>
                <a:latin typeface="Times New Roman"/>
              </a:rPr>
              <a:t>/2006</a:t>
            </a:r>
            <a:r>
              <a:rPr b="0" lang="ar-SA" sz="2000" spc="-1" strike="noStrike">
                <a:solidFill>
                  <a:srgbClr val="ffffff"/>
                </a:solidFill>
                <a:latin typeface="Times New Roman"/>
              </a:rPr>
              <a:t> باعت شركة (أ) مصنعا لشركة (ب) المملوكة بالكامل لبنك الاستثمار وبلغت متحصلات البيع </a:t>
            </a:r>
            <a:r>
              <a:rPr b="0" lang="ar-SA" sz="2000" spc="-1" strike="noStrike">
                <a:solidFill>
                  <a:srgbClr val="ffffff"/>
                </a:solidFill>
                <a:latin typeface="Times New Roman"/>
              </a:rPr>
              <a:t>15</a:t>
            </a:r>
            <a:r>
              <a:rPr b="0" lang="ar-SA" sz="2000" spc="-1" strike="noStrike">
                <a:solidFill>
                  <a:srgbClr val="ffffff"/>
                </a:solidFill>
                <a:latin typeface="Times New Roman"/>
              </a:rPr>
              <a:t> مليون جنيها فى بلغت صافى تكلفته الدفترية </a:t>
            </a:r>
            <a:r>
              <a:rPr b="0" lang="ar-SA" sz="2000" spc="-1" strike="noStrike">
                <a:solidFill>
                  <a:srgbClr val="ffffff"/>
                </a:solidFill>
                <a:latin typeface="Times New Roman"/>
              </a:rPr>
              <a:t>12</a:t>
            </a:r>
            <a:r>
              <a:rPr b="0" lang="ar-SA" sz="2000" spc="-1" strike="noStrike">
                <a:solidFill>
                  <a:srgbClr val="ffffff"/>
                </a:solidFill>
                <a:latin typeface="Times New Roman"/>
              </a:rPr>
              <a:t> مليون جنيها.</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امت شركة (ب) بتمويل عملية الشراء من خلال قرض بمبلغ </a:t>
            </a:r>
            <a:r>
              <a:rPr b="0" lang="ar-SA" sz="2000" spc="-1" strike="noStrike">
                <a:solidFill>
                  <a:srgbClr val="ffffff"/>
                </a:solidFill>
                <a:latin typeface="Times New Roman"/>
              </a:rPr>
              <a:t>15</a:t>
            </a:r>
            <a:r>
              <a:rPr b="0" lang="ar-SA" sz="2000" spc="-1" strike="noStrike">
                <a:solidFill>
                  <a:srgbClr val="ffffff"/>
                </a:solidFill>
                <a:latin typeface="Times New Roman"/>
              </a:rPr>
              <a:t> مليون جنيها حصلت عليه من بنك الاستثمار.</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سدد شركة (ب) أتعابا لشركة (أ) مقابل إدارة المصنع تمثل رصيد الارباح المتبقية لديها بعد سداد فائدة القرض. فى حين لو حققت شركة (ب) خسائر فسوف تتحملها الشركة (أ).</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609480" y="609480"/>
            <a:ext cx="8001000" cy="63889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ظروف الطارئة والأحداث اللاحقة لتاريخ الميزاني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ب الأخذ فى الاعتبار الإفصاح عن الارتباطات التى ارتبطت بها المنشاة مع أطراف أخرى مما ينتج عنها نفقات رأسمالية مستقبلية بما فى ذلك ارتباطات المنشاة بشان حقوقها فى الشركات التى قامت بالمساهمة فيها او الارتباط على شراء اصول للأغراض الانتاجية أو البيعية على اعتبار ان أصول المنشاة او التزاماتها الحالية ستتأثر بالضرورة عند تنفيذ أو عدم تنفيذ تلك الارتباطات.</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ب الأخذ فى الاعتبار الاحداث التى قد تكون فى صالح المنشاة أو فى غير صالحها والتى تكون قد وقعت بعد تاريخ الميزانية وحتى تاريخ اعتماد القوائم المالية بغرض النشر. و</a:t>
            </a:r>
            <a:r>
              <a:rPr b="0" lang="ar-EG" sz="2000" spc="-1" strike="noStrike">
                <a:solidFill>
                  <a:srgbClr val="ffffff"/>
                </a:solidFill>
                <a:latin typeface="Times New Roman"/>
              </a:rPr>
              <a:t>تتمثل</a:t>
            </a:r>
            <a:r>
              <a:rPr b="0" lang="ar-SA" sz="2000" spc="-1" strike="noStrike">
                <a:solidFill>
                  <a:srgbClr val="ffffff"/>
                </a:solidFill>
                <a:latin typeface="Times New Roman"/>
              </a:rPr>
              <a:t> فى:</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حداث توفر ادلة إضافية عن حالات وامور كانت قائمة فى تاريخ الميزانية وهذه الاحداث يجب إثبات التسويات الخاصة بها فى القوائم المالي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احداث التى تشير الى حالات او أمور نشأت بعد تاريخ الميزانية وهذه الاحداث لا تتطلب أية تسويات وإنما يجب الإفصاح عنها فى إيضاح أو غيره فرفق بالقوائم المالية إذا كانت جوهرية</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1424160" y="228600"/>
            <a:ext cx="680544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أمثلة للاحداث اللاحقة لتاريخ الميزانية</a:t>
            </a:r>
            <a:endParaRPr b="0" lang="en-US" sz="2400" spc="-1" strike="noStrike">
              <a:solidFill>
                <a:srgbClr val="ffffff"/>
              </a:solidFill>
              <a:latin typeface="Times New Roman"/>
            </a:endParaRPr>
          </a:p>
        </p:txBody>
      </p:sp>
      <p:graphicFrame>
        <p:nvGraphicFramePr>
          <p:cNvPr id="88" name=""/>
          <p:cNvGraphicFramePr/>
          <p:nvPr/>
        </p:nvGraphicFramePr>
        <p:xfrm>
          <a:off x="304920" y="762120"/>
          <a:ext cx="8610480" cy="5295960"/>
        </p:xfrm>
        <a:graphic>
          <a:graphicData uri="http://schemas.openxmlformats.org/drawingml/2006/table">
            <a:tbl>
              <a:tblPr/>
              <a:tblGrid>
                <a:gridCol w="4267080"/>
                <a:gridCol w="4343400"/>
              </a:tblGrid>
              <a:tr h="317520">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Arial"/>
                          <a:cs typeface="Arial"/>
                        </a:rPr>
                        <a:t>التأثير على القوائم المالية</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Arial"/>
                          <a:cs typeface="Arial"/>
                        </a:rPr>
                        <a:t>طبيــــــــــــــــــــــــــــــــعة الحــــــــــــدث</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108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Arial"/>
                          <a:cs typeface="Arial"/>
                        </a:rPr>
                        <a:t>خسارة بقائمة الدخل مع تعديل حسابات العملاء بالميزانية واثر ذلك على رأس المال العامل.</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Arial"/>
                          <a:cs typeface="Arial"/>
                        </a:rPr>
                        <a:t>إفلاس أحد عملاء المنشأ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464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Arial"/>
                          <a:cs typeface="Arial"/>
                        </a:rPr>
                        <a:t>خسارة بقائمة الدخل مع تعديل حسابات المخزون بالميزانية واثر ذلك على رأس المال العامل.</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Arial"/>
                          <a:cs typeface="Arial"/>
                        </a:rPr>
                        <a:t>بيع المخزون باقل من تكلفته المدرجة بالميزاني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464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Arial"/>
                          <a:cs typeface="Arial"/>
                        </a:rPr>
                        <a:t>خسارة بقائمة الدخل مع تعديل حسابات الاصول طويلة الأجل بالميزانية واثر ذلك على رأس المال المستثمر.</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Arial"/>
                          <a:cs typeface="Arial"/>
                        </a:rPr>
                        <a:t>بيع احد الأصول طويلة الاجل بقيمة تقل عن القيمة الدفتري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1400" spc="-1" strike="noStrike">
                          <a:solidFill>
                            <a:srgbClr val="ffffff"/>
                          </a:solidFill>
                          <a:latin typeface="Arial"/>
                          <a:cs typeface="Times New Roman (Arabic)"/>
                        </a:rPr>
                        <a:t>الإفصاح مع </a:t>
                      </a:r>
                      <a:r>
                        <a:rPr b="1" lang="ar-SA" sz="1400" spc="-1" strike="noStrike">
                          <a:solidFill>
                            <a:srgbClr val="ffffff"/>
                          </a:solidFill>
                          <a:latin typeface="Arial"/>
                          <a:cs typeface="Arial"/>
                        </a:rPr>
                        <a:t>إعادة النظر فى فرض الاستمرارية للمنشاة.</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Arial"/>
                          <a:cs typeface="Arial"/>
                        </a:rPr>
                        <a:t>تدهور نتائج الاعمال أو المركز المالى بعد تاريخ الميزاني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124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1400" spc="-1" strike="noStrike">
                          <a:solidFill>
                            <a:srgbClr val="ffffff"/>
                          </a:solidFill>
                          <a:latin typeface="Arial"/>
                          <a:cs typeface="Times New Roman (Arabic)"/>
                        </a:rPr>
                        <a:t>الإفصاح مع </a:t>
                      </a:r>
                      <a:r>
                        <a:rPr b="1" lang="ar-SA" sz="1400" spc="-1" strike="noStrike">
                          <a:solidFill>
                            <a:srgbClr val="ffffff"/>
                          </a:solidFill>
                          <a:latin typeface="Arial"/>
                          <a:cs typeface="Arial"/>
                        </a:rPr>
                        <a:t>إعادة النظر فى فرض الاستمرارية للمنشاة.</a:t>
                      </a:r>
                      <a:endParaRPr b="0" lang="en-US" sz="1400" spc="-1" strike="noStrike">
                        <a:solidFill>
                          <a:srgbClr val="ffffff"/>
                        </a:solidFill>
                        <a:latin typeface="Times New Roman"/>
                      </a:endParaRPr>
                    </a:p>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Arial"/>
                          <a:cs typeface="Arial"/>
                        </a:rPr>
                        <a:t>تدمير أو انهيار هام فى مصانع المنشاة نتيجة حريق او كوارث طبيعية أو عوامل اخرى</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464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1400" spc="-1" strike="noStrike">
                          <a:solidFill>
                            <a:srgbClr val="ffffff"/>
                          </a:solidFill>
                          <a:latin typeface="Arial"/>
                          <a:cs typeface="Times New Roman (Arabic)"/>
                        </a:rPr>
                        <a:t>الإفصاح  عن </a:t>
                      </a:r>
                      <a:r>
                        <a:rPr b="1" lang="ar-SA" sz="1400" spc="-1" strike="noStrike">
                          <a:solidFill>
                            <a:srgbClr val="ffffff"/>
                          </a:solidFill>
                          <a:latin typeface="Arial"/>
                          <a:cs typeface="Arial"/>
                        </a:rPr>
                        <a:t>زيادة الاصول طويلة ا</a:t>
                      </a:r>
                      <a:r>
                        <a:rPr b="1" lang="ar-SA" sz="1400" spc="-1" strike="noStrike">
                          <a:solidFill>
                            <a:srgbClr val="ffffff"/>
                          </a:solidFill>
                          <a:latin typeface="Arial"/>
                          <a:cs typeface="Times New Roman (Arabic)"/>
                        </a:rPr>
                        <a:t>لاجل</a:t>
                      </a:r>
                      <a:r>
                        <a:rPr b="1" lang="ar-SA" sz="1400" spc="-1" strike="noStrike">
                          <a:solidFill>
                            <a:srgbClr val="ffffff"/>
                          </a:solidFill>
                          <a:latin typeface="Arial"/>
                          <a:ea typeface="Arial"/>
                        </a:rPr>
                        <a:t> واثر ذلك على رأس المال المستثمر وتوقعات الارباح المستقبلية وحجم الاعمال.</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Arial"/>
                          <a:cs typeface="Arial"/>
                        </a:rPr>
                        <a:t>اقتناء مشروع او منشاة أخرى بعد تاريخ الميزاني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1400" spc="-1" strike="noStrike">
                          <a:solidFill>
                            <a:srgbClr val="ffffff"/>
                          </a:solidFill>
                          <a:latin typeface="Arial"/>
                          <a:cs typeface="Times New Roman (Arabic)"/>
                        </a:rPr>
                        <a:t>الإفصاح عن </a:t>
                      </a:r>
                      <a:r>
                        <a:rPr b="1" lang="ar-SA" sz="1400" spc="-1" strike="noStrike">
                          <a:solidFill>
                            <a:srgbClr val="ffffff"/>
                          </a:solidFill>
                          <a:latin typeface="Arial"/>
                          <a:cs typeface="Arial"/>
                        </a:rPr>
                        <a:t>خسارة</a:t>
                      </a:r>
                      <a:r>
                        <a:rPr b="1" lang="ar-SA" sz="1400" spc="-1" strike="noStrike">
                          <a:solidFill>
                            <a:srgbClr val="ffffff"/>
                          </a:solidFill>
                          <a:latin typeface="Arial"/>
                          <a:ea typeface="Times New Roman (Arabic)"/>
                        </a:rPr>
                        <a:t> هبوط القيمة السوقية للإستثمارات</a:t>
                      </a:r>
                      <a:r>
                        <a:rPr b="1" lang="ar-SA" sz="1400" spc="-1" strike="noStrike">
                          <a:solidFill>
                            <a:srgbClr val="ffffff"/>
                          </a:solidFill>
                          <a:latin typeface="Arial"/>
                          <a:ea typeface="Arial"/>
                        </a:rPr>
                        <a:t>.</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Arial"/>
                          <a:cs typeface="Arial"/>
                        </a:rPr>
                        <a:t>هبوط القيمة السوقية للاستثمارات بعد تاريخ الميزاني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EG" sz="1400" spc="-1" strike="noStrike">
                          <a:solidFill>
                            <a:srgbClr val="ffffff"/>
                          </a:solidFill>
                          <a:latin typeface="Arial"/>
                          <a:cs typeface="Times New Roman (Arabic)"/>
                        </a:rPr>
                        <a:t>الإفصاح  عن </a:t>
                      </a:r>
                      <a:r>
                        <a:rPr b="1" lang="ar-SA" sz="1400" spc="-1" strike="noStrike">
                          <a:solidFill>
                            <a:srgbClr val="ffffff"/>
                          </a:solidFill>
                          <a:latin typeface="Arial"/>
                          <a:cs typeface="Arial"/>
                        </a:rPr>
                        <a:t>خسائر أو ارباح اثر التغير فى اسعار الصرف.</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Arial"/>
                          <a:cs typeface="Arial"/>
                        </a:rPr>
                        <a:t>التغير فى أسعار صرف العملات الاجنبية بعد تاريخ الميزاني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533520" y="533520"/>
            <a:ext cx="8076960" cy="68526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وزيعات أرباح الاسهم المتوقع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ن توزيعات أرباح (كوبونات) الأوراق المالية التى تم الإعلان عنها بعد تاريخ الميزانية لا يجوز اعتبارها كالتزام فى تاريخ الميزانية ولكن وفقا لمعايير المحاسبة المصرية تعرض تلك التوزيعات كإيضاح ضمن الإيضاحات المتممة للقوائم المالي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جميل القوائم المالي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تم إجراء تجميل للقوائم المالية عندما يتم قيد معاملات معينة قبل نهاية السنة المالية ثم عكس تلك المعاملات فى بداية السنة التالية. والراى هنا هو ان يتم استبعاد مثل تلك المعاملات من الميزاني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ثال: فى </a:t>
            </a:r>
            <a:r>
              <a:rPr b="0" lang="ar-SA" sz="2000" spc="-1" strike="noStrike">
                <a:solidFill>
                  <a:srgbClr val="ffffff"/>
                </a:solidFill>
                <a:latin typeface="Times New Roman"/>
              </a:rPr>
              <a:t>31</a:t>
            </a:r>
            <a:r>
              <a:rPr b="0" lang="ar-SA" sz="2000" spc="-1" strike="noStrike">
                <a:solidFill>
                  <a:srgbClr val="ffffff"/>
                </a:solidFill>
                <a:latin typeface="Times New Roman"/>
              </a:rPr>
              <a:t> ديسمبر </a:t>
            </a:r>
            <a:r>
              <a:rPr b="0" lang="ar-SA" sz="2000" spc="-1" strike="noStrike">
                <a:solidFill>
                  <a:srgbClr val="ffffff"/>
                </a:solidFill>
                <a:latin typeface="Times New Roman"/>
              </a:rPr>
              <a:t>2008</a:t>
            </a:r>
            <a:r>
              <a:rPr b="0" lang="ar-SA" sz="2000" spc="-1" strike="noStrike">
                <a:solidFill>
                  <a:srgbClr val="ffffff"/>
                </a:solidFill>
                <a:latin typeface="Times New Roman"/>
              </a:rPr>
              <a:t> أرتفع رصيد محفظة القروض لأحد البنوك أكثر من المعتاد وبالتالى اصبحت نسبة اصوله السائلة الى إجمالى الأصول منخفضة ونتيجة لذلك عمل البنك على الحصول على قرض من بنك </a:t>
            </a:r>
            <a:r>
              <a:rPr b="0" lang="ar-EG" sz="2000" spc="-1" strike="noStrike">
                <a:solidFill>
                  <a:srgbClr val="ffffff"/>
                </a:solidFill>
                <a:latin typeface="Times New Roman"/>
              </a:rPr>
              <a:t>آ</a:t>
            </a:r>
            <a:r>
              <a:rPr b="0" lang="ar-SA" sz="2000" spc="-1" strike="noStrike">
                <a:solidFill>
                  <a:srgbClr val="ffffff"/>
                </a:solidFill>
                <a:latin typeface="Times New Roman"/>
              </a:rPr>
              <a:t>خر بمبلغ </a:t>
            </a:r>
            <a:r>
              <a:rPr b="0" lang="ar-SA" sz="2000" spc="-1" strike="noStrike">
                <a:solidFill>
                  <a:srgbClr val="ffffff"/>
                </a:solidFill>
                <a:latin typeface="Times New Roman"/>
              </a:rPr>
              <a:t>40</a:t>
            </a:r>
            <a:r>
              <a:rPr b="0" lang="ar-SA" sz="2000" spc="-1" strike="noStrike">
                <a:solidFill>
                  <a:srgbClr val="ffffff"/>
                </a:solidFill>
                <a:latin typeface="Times New Roman"/>
              </a:rPr>
              <a:t> مليون جنيها ادرجه ضمن اصوله السائلة فى نهاية العام على ان يتم رده للبنك المذكور فى بداية عام </a:t>
            </a:r>
            <a:r>
              <a:rPr b="0" lang="ar-SA" sz="2000" spc="-1" strike="noStrike">
                <a:solidFill>
                  <a:srgbClr val="ffffff"/>
                </a:solidFill>
                <a:latin typeface="Times New Roman"/>
              </a:rPr>
              <a:t>2009</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838080" y="2125800"/>
            <a:ext cx="7391520" cy="27046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خصصات والالتزامات الطارئة والأصول الطارئ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عرف المخصصات بأنها التزامات مؤكدة الحدوث وتتسم مبالغها وتوقيتات صرفها بأنها غير معلومة المقدار. وترى لجنة معايير المحاسبة الدولية بان المخصصات هى بند فرعى من الالتزامات وليست عنصرا قائما بذاته فى الميزانية. </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01:14:33Z</dcterms:created>
  <dc:creator>Administrator</dc:creator>
  <dc:description/>
  <dc:language>en-US</dc:language>
  <cp:lastModifiedBy>KPMG</cp:lastModifiedBy>
  <dcterms:modified xsi:type="dcterms:W3CDTF">2005-07-23T22:08:33Z</dcterms:modified>
  <cp:revision>10</cp:revision>
  <dc:subject/>
  <dc:title>PowerPoint Presentation</dc:title>
</cp:coreProperties>
</file>